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位置与方向（二）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79280" y="19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根据方向和距离，在图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绘出物体的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6560" y="4292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情境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785880" y="5691600"/>
            <a:ext cx="39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450800"/>
            <a:ext cx="4896000" cy="325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4000" y="1484280"/>
            <a:ext cx="504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位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北偏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 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距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北方， 距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在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图中标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8856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20840" y="2752560"/>
            <a:ext cx="912240" cy="732600"/>
            <a:chOff x="1320840" y="2752560"/>
            <a:chExt cx="912240" cy="732600"/>
          </a:xfrm>
        </p:grpSpPr>
        <p:grpSp>
          <p:nvGrpSpPr>
            <p:cNvPr id="50" name=""/>
            <p:cNvGrpSpPr/>
            <p:nvPr/>
          </p:nvGrpSpPr>
          <p:grpSpPr>
            <a:xfrm>
              <a:off x="1320840" y="2752560"/>
              <a:ext cx="912240" cy="732600"/>
              <a:chOff x="1320840" y="2752560"/>
              <a:chExt cx="912240" cy="732600"/>
            </a:xfrm>
          </p:grpSpPr>
          <p:sp>
            <p:nvSpPr>
              <p:cNvPr id="51" name=""/>
              <p:cNvSpPr/>
              <p:nvPr/>
            </p:nvSpPr>
            <p:spPr>
              <a:xfrm>
                <a:off x="1320840" y="2752560"/>
                <a:ext cx="720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2030400" y="3125520"/>
                <a:ext cx="61920" cy="3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2053080" y="3173040"/>
                <a:ext cx="180000" cy="31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1840680" y="2800080"/>
                <a:ext cx="208080" cy="366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825560" y="278892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26"/>
          <p:cNvSpPr/>
          <p:nvPr/>
        </p:nvSpPr>
        <p:spPr>
          <a:xfrm>
            <a:off x="4067280" y="185904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北偏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什么意思呢？请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下面这幅图中画出这个方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4605480" y="2630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说你是怎样画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4605480" y="3049560"/>
            <a:ext cx="43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想确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市的位置，还需要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条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4622760" y="381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表示距离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619520" y="42660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4614840" y="4699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图上标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市的具体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7360" y="1557360"/>
            <a:ext cx="3968640" cy="3778920"/>
            <a:chOff x="387360" y="1557360"/>
            <a:chExt cx="3968640" cy="3778920"/>
          </a:xfrm>
        </p:grpSpPr>
        <p:sp>
          <p:nvSpPr>
            <p:cNvPr id="64" name=""/>
            <p:cNvSpPr/>
            <p:nvPr/>
          </p:nvSpPr>
          <p:spPr>
            <a:xfrm>
              <a:off x="2476440" y="3908520"/>
              <a:ext cx="108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87360" y="1557360"/>
              <a:ext cx="3968640" cy="3778920"/>
              <a:chOff x="387360" y="1557360"/>
              <a:chExt cx="3968640" cy="377892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387360" y="1557360"/>
                <a:ext cx="3968640" cy="3778920"/>
                <a:chOff x="387360" y="1557360"/>
                <a:chExt cx="3968640" cy="37789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2867400" y="3767040"/>
                  <a:ext cx="312120" cy="245880"/>
                  <a:chOff x="2867400" y="3767040"/>
                  <a:chExt cx="312120" cy="2458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867400" y="3832560"/>
                    <a:ext cx="312120" cy="18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flipV="1">
                    <a:off x="2877840" y="3767040"/>
                    <a:ext cx="36360" cy="63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387360" y="1557360"/>
                  <a:ext cx="3968640" cy="3778920"/>
                  <a:chOff x="387360" y="1557360"/>
                  <a:chExt cx="3968640" cy="37789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3173760" y="3940200"/>
                    <a:ext cx="312120" cy="245880"/>
                    <a:chOff x="3173760" y="3940200"/>
                    <a:chExt cx="312120" cy="24588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3173760" y="400572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184200" y="394020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3486600" y="4118040"/>
                    <a:ext cx="312120" cy="245880"/>
                    <a:chOff x="3486600" y="4118040"/>
                    <a:chExt cx="312120" cy="24588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486600" y="418356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V="1">
                      <a:off x="3497040" y="411804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" name=""/>
                  <p:cNvGrpSpPr/>
                  <p:nvPr/>
                </p:nvGrpSpPr>
                <p:grpSpPr>
                  <a:xfrm>
                    <a:off x="3775320" y="4284720"/>
                    <a:ext cx="312120" cy="245880"/>
                    <a:chOff x="3775320" y="4284720"/>
                    <a:chExt cx="312120" cy="245880"/>
                  </a:xfrm>
                </p:grpSpPr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775320" y="435024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 flipV="1">
                      <a:off x="3785400" y="4284720"/>
                      <a:ext cx="3672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387360" y="1557360"/>
                    <a:ext cx="3968640" cy="3778920"/>
                    <a:chOff x="387360" y="1557360"/>
                    <a:chExt cx="3968640" cy="377892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 rot="2628000">
                      <a:off x="2439000" y="3449880"/>
                      <a:ext cx="14184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74263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742635"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960480" y="4581720"/>
                      <a:ext cx="1224000" cy="385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679840" y="3409920"/>
                      <a:ext cx="9349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387360" y="1557360"/>
                      <a:ext cx="3968640" cy="3778920"/>
                      <a:chOff x="387360" y="1557360"/>
                      <a:chExt cx="3968640" cy="3778920"/>
                    </a:xfrm>
                  </p:grpSpPr>
                  <p:grpSp>
                    <p:nvGrpSpPr>
                      <p:cNvPr id="85" name=""/>
                      <p:cNvGrpSpPr/>
                      <p:nvPr/>
                    </p:nvGrpSpPr>
                    <p:grpSpPr>
                      <a:xfrm>
                        <a:off x="767880" y="1970280"/>
                        <a:ext cx="3024360" cy="3024000"/>
                        <a:chOff x="767880" y="1970280"/>
                        <a:chExt cx="3024360" cy="3024000"/>
                      </a:xfrm>
                    </p:grpSpPr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2257200" y="1970280"/>
                          <a:ext cx="0" cy="30240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>
                          <a:off x="767880" y="3481200"/>
                          <a:ext cx="302436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3706920" y="320364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东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2006640" y="155736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387360" y="3193920"/>
                        <a:ext cx="64944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西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040120" y="491328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2" name=""/>
                  <p:cNvSpPr/>
                  <p:nvPr/>
                </p:nvSpPr>
                <p:spPr>
                  <a:xfrm>
                    <a:off x="4070520" y="4475160"/>
                    <a:ext cx="7128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1104840" y="3078360"/>
                <a:ext cx="2189160" cy="1925640"/>
                <a:chOff x="1104840" y="3078360"/>
                <a:chExt cx="2189160" cy="19256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262600" y="348696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1104840" y="3078360"/>
                  <a:ext cx="2189160" cy="1925640"/>
                  <a:chOff x="1104840" y="3078360"/>
                  <a:chExt cx="2189160" cy="192564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1104840" y="4930560"/>
                    <a:ext cx="360360" cy="73440"/>
                    <a:chOff x="1104840" y="4930560"/>
                    <a:chExt cx="360360" cy="7344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1104840" y="500400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flipV="1">
                      <a:off x="1104840" y="493056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flipV="1">
                      <a:off x="1458720" y="493056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2554560" y="3589560"/>
                    <a:ext cx="312120" cy="245880"/>
                    <a:chOff x="2554560" y="3589560"/>
                    <a:chExt cx="312120" cy="2458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2554560" y="365508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flipV="1">
                      <a:off x="2564640" y="3589560"/>
                      <a:ext cx="3672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" name=""/>
                  <p:cNvSpPr/>
                  <p:nvPr/>
                </p:nvSpPr>
                <p:spPr>
                  <a:xfrm>
                    <a:off x="2212920" y="3078360"/>
                    <a:ext cx="1081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市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4" name=""/>
          <p:cNvGrpSpPr/>
          <p:nvPr/>
        </p:nvGrpSpPr>
        <p:grpSpPr>
          <a:xfrm>
            <a:off x="1272960" y="1799640"/>
            <a:ext cx="1364040" cy="1683720"/>
            <a:chOff x="1272960" y="1799640"/>
            <a:chExt cx="1364040" cy="1683720"/>
          </a:xfrm>
        </p:grpSpPr>
        <p:sp>
          <p:nvSpPr>
            <p:cNvPr id="105" name=""/>
            <p:cNvSpPr/>
            <p:nvPr/>
          </p:nvSpPr>
          <p:spPr>
            <a:xfrm>
              <a:off x="1272960" y="1799640"/>
              <a:ext cx="966600" cy="168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102400">
              <a:off x="1885320" y="3155040"/>
              <a:ext cx="43092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308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30815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4640" y="2616120"/>
              <a:ext cx="7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121800" y="3413160"/>
            <a:ext cx="189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距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252360"/>
            <a:ext cx="84391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49360" y="3068640"/>
            <a:ext cx="4552920" cy="3598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640" y="1484280"/>
            <a:ext cx="660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平面图上标出校园内各建筑物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教学楼在校门的正北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图书馆在校门的北偏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5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体育馆在校门的西偏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7360" y="3886200"/>
            <a:ext cx="1370880" cy="1496520"/>
            <a:chOff x="3807360" y="3886200"/>
            <a:chExt cx="1370880" cy="1496520"/>
          </a:xfrm>
        </p:grpSpPr>
        <p:grpSp>
          <p:nvGrpSpPr>
            <p:cNvPr id="115" name=""/>
            <p:cNvGrpSpPr/>
            <p:nvPr/>
          </p:nvGrpSpPr>
          <p:grpSpPr>
            <a:xfrm>
              <a:off x="4510080" y="4264200"/>
              <a:ext cx="90360" cy="1118520"/>
              <a:chOff x="4510080" y="4264200"/>
              <a:chExt cx="90360" cy="1118520"/>
            </a:xfrm>
          </p:grpSpPr>
          <p:sp>
            <p:nvSpPr>
              <p:cNvPr id="116" name=""/>
              <p:cNvSpPr/>
              <p:nvPr/>
            </p:nvSpPr>
            <p:spPr>
              <a:xfrm>
                <a:off x="4519440" y="5013000"/>
                <a:ext cx="7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29160" y="4646520"/>
                <a:ext cx="0" cy="360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29160" y="4652640"/>
                <a:ext cx="7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4510080" y="4264200"/>
                <a:ext cx="36360" cy="1118520"/>
                <a:chOff x="4510080" y="4264200"/>
                <a:chExt cx="36360" cy="1118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529160" y="5017320"/>
                  <a:ext cx="0" cy="3654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29160" y="4286520"/>
                  <a:ext cx="0" cy="3654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10080" y="4264200"/>
                  <a:ext cx="36360" cy="36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4097160" y="3886200"/>
              <a:ext cx="108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教学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7360" y="4424400"/>
              <a:ext cx="738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5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99560" y="4149720"/>
            <a:ext cx="1829880" cy="1190160"/>
            <a:chOff x="4399560" y="4149720"/>
            <a:chExt cx="1829880" cy="1190160"/>
          </a:xfrm>
        </p:grpSpPr>
        <p:grpSp>
          <p:nvGrpSpPr>
            <p:cNvPr id="126" name=""/>
            <p:cNvGrpSpPr/>
            <p:nvPr/>
          </p:nvGrpSpPr>
          <p:grpSpPr>
            <a:xfrm>
              <a:off x="4399560" y="4149720"/>
              <a:ext cx="1829880" cy="1190160"/>
              <a:chOff x="4399560" y="4149720"/>
              <a:chExt cx="1829880" cy="11901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932360" y="4448880"/>
                <a:ext cx="206640" cy="295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399560" y="4149720"/>
                <a:ext cx="1829880" cy="1190160"/>
                <a:chOff x="4399560" y="4149720"/>
                <a:chExt cx="1829880" cy="11901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4446720" y="4149720"/>
                  <a:ext cx="1782720" cy="926280"/>
                  <a:chOff x="4446720" y="4149720"/>
                  <a:chExt cx="1782720" cy="92628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148360" y="4149720"/>
                    <a:ext cx="1081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0000"/>
                        </a:solidFill>
                        <a:latin typeface="Arial"/>
                      </a:rPr>
                      <a:t>图书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446720" y="4653000"/>
                    <a:ext cx="792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35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4537800" y="4755240"/>
                  <a:ext cx="470880" cy="584640"/>
                  <a:chOff x="4537800" y="4755240"/>
                  <a:chExt cx="470880" cy="58464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740480" y="5051160"/>
                    <a:ext cx="61920" cy="42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4537800" y="5037480"/>
                    <a:ext cx="211680" cy="3024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946760" y="4755240"/>
                    <a:ext cx="61920" cy="417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4728240" y="4757760"/>
                    <a:ext cx="211680" cy="3024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4399560" y="5086440"/>
                  <a:ext cx="28800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148360" y="4427640"/>
              <a:ext cx="36720" cy="3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916360" y="3990960"/>
            <a:ext cx="1620000" cy="1392120"/>
            <a:chOff x="2916360" y="3990960"/>
            <a:chExt cx="1620000" cy="1392120"/>
          </a:xfrm>
        </p:grpSpPr>
        <p:grpSp>
          <p:nvGrpSpPr>
            <p:cNvPr id="140" name=""/>
            <p:cNvGrpSpPr/>
            <p:nvPr/>
          </p:nvGrpSpPr>
          <p:grpSpPr>
            <a:xfrm>
              <a:off x="2916360" y="3990960"/>
              <a:ext cx="1620000" cy="1392120"/>
              <a:chOff x="2916360" y="3990960"/>
              <a:chExt cx="1620000" cy="13921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86520" y="4398840"/>
                <a:ext cx="1149840" cy="984240"/>
                <a:chOff x="3386520" y="4398840"/>
                <a:chExt cx="1149840" cy="984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86520" y="4398840"/>
                  <a:ext cx="3636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3414240" y="4438800"/>
                  <a:ext cx="1122120" cy="944280"/>
                  <a:chOff x="3414240" y="4438800"/>
                  <a:chExt cx="1122120" cy="9442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670200" y="4625280"/>
                    <a:ext cx="866160" cy="757800"/>
                    <a:chOff x="3670200" y="4625280"/>
                    <a:chExt cx="866160" cy="757800"/>
                  </a:xfrm>
                </p:grpSpPr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4233600" y="5098320"/>
                      <a:ext cx="302760" cy="284760"/>
                      <a:chOff x="4233600" y="5098320"/>
                      <a:chExt cx="302760" cy="28476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 flipV="1">
                        <a:off x="4233600" y="5098320"/>
                        <a:ext cx="50040" cy="5076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4260240" y="515160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3949560" y="4860360"/>
                      <a:ext cx="302760" cy="284760"/>
                      <a:chOff x="3949560" y="4860360"/>
                      <a:chExt cx="302760" cy="28476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 flipV="1">
                        <a:off x="3949560" y="4860360"/>
                        <a:ext cx="50040" cy="5076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976200" y="491364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3670200" y="4625280"/>
                      <a:ext cx="302760" cy="284760"/>
                      <a:chOff x="3670200" y="4625280"/>
                      <a:chExt cx="302760" cy="28476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 flipV="1">
                        <a:off x="3670200" y="4625280"/>
                        <a:ext cx="50040" cy="5076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3696840" y="467856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3414240" y="443880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" name=""/>
              <p:cNvSpPr/>
              <p:nvPr/>
            </p:nvSpPr>
            <p:spPr>
              <a:xfrm>
                <a:off x="2916360" y="3990960"/>
                <a:ext cx="1295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体育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203640" y="4653000"/>
              <a:ext cx="108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062240" y="4714920"/>
            <a:ext cx="927000" cy="756720"/>
            <a:chOff x="4062240" y="4714920"/>
            <a:chExt cx="927000" cy="756720"/>
          </a:xfrm>
        </p:grpSpPr>
        <p:sp>
          <p:nvSpPr>
            <p:cNvPr id="158" name=""/>
            <p:cNvSpPr/>
            <p:nvPr/>
          </p:nvSpPr>
          <p:spPr>
            <a:xfrm>
              <a:off x="4062240" y="4714920"/>
              <a:ext cx="927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800000">
              <a:off x="4109760" y="5150160"/>
              <a:ext cx="4798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308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30815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894920" y="4672080"/>
            <a:ext cx="73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8856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640" y="1484280"/>
            <a:ext cx="747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石油勘探队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城东偏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上，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口油井。请你在平面图上确定油井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71720" y="2279520"/>
            <a:ext cx="3968640" cy="3778920"/>
            <a:chOff x="1971720" y="2279520"/>
            <a:chExt cx="3968640" cy="3778920"/>
          </a:xfrm>
        </p:grpSpPr>
        <p:grpSp>
          <p:nvGrpSpPr>
            <p:cNvPr id="166" name=""/>
            <p:cNvGrpSpPr/>
            <p:nvPr/>
          </p:nvGrpSpPr>
          <p:grpSpPr>
            <a:xfrm>
              <a:off x="1971720" y="2279520"/>
              <a:ext cx="3968640" cy="3778920"/>
              <a:chOff x="1971720" y="2279520"/>
              <a:chExt cx="3968640" cy="37789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554200" y="5649480"/>
                <a:ext cx="360360" cy="73440"/>
                <a:chOff x="2554200" y="5649480"/>
                <a:chExt cx="360360" cy="734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554200" y="5722920"/>
                  <a:ext cx="36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255420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290808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971720" y="2279520"/>
                <a:ext cx="3968640" cy="3778920"/>
                <a:chOff x="1971720" y="2279520"/>
                <a:chExt cx="3968640" cy="37789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09840" y="530064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1971720" y="2279520"/>
                  <a:ext cx="3968640" cy="3778920"/>
                  <a:chOff x="1971720" y="2279520"/>
                  <a:chExt cx="3968640" cy="377892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1971720" y="2279520"/>
                    <a:ext cx="3968640" cy="3778920"/>
                    <a:chOff x="1971720" y="2279520"/>
                    <a:chExt cx="3968640" cy="3778920"/>
                  </a:xfrm>
                </p:grpSpPr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2352240" y="2692440"/>
                      <a:ext cx="3024360" cy="3024000"/>
                      <a:chOff x="2352240" y="2692440"/>
                      <a:chExt cx="3024360" cy="302400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3841560" y="2692440"/>
                        <a:ext cx="0" cy="3024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 flipH="1">
                        <a:off x="2352240" y="4203360"/>
                        <a:ext cx="3024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5291280" y="3925800"/>
                      <a:ext cx="6490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591000" y="2279520"/>
                      <a:ext cx="6490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971720" y="3916080"/>
                      <a:ext cx="64944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624480" y="5635440"/>
                      <a:ext cx="6490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2" name=""/>
                  <p:cNvSpPr/>
                  <p:nvPr/>
                </p:nvSpPr>
                <p:spPr>
                  <a:xfrm>
                    <a:off x="3800520" y="4151160"/>
                    <a:ext cx="7128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3" name=""/>
            <p:cNvSpPr/>
            <p:nvPr/>
          </p:nvSpPr>
          <p:spPr>
            <a:xfrm>
              <a:off x="3780000" y="3797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780000" y="3068640"/>
            <a:ext cx="1368360" cy="1263240"/>
            <a:chOff x="3780000" y="3068640"/>
            <a:chExt cx="1368360" cy="1263240"/>
          </a:xfrm>
        </p:grpSpPr>
        <p:grpSp>
          <p:nvGrpSpPr>
            <p:cNvPr id="185" name=""/>
            <p:cNvGrpSpPr/>
            <p:nvPr/>
          </p:nvGrpSpPr>
          <p:grpSpPr>
            <a:xfrm>
              <a:off x="3780000" y="3068640"/>
              <a:ext cx="1368360" cy="1186560"/>
              <a:chOff x="3780000" y="3068640"/>
              <a:chExt cx="1368360" cy="11865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3831120" y="3068640"/>
                <a:ext cx="1317240" cy="1133640"/>
                <a:chOff x="3831120" y="3068640"/>
                <a:chExt cx="1317240" cy="11336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831120" y="3467160"/>
                  <a:ext cx="867960" cy="735120"/>
                  <a:chOff x="3831120" y="3467160"/>
                  <a:chExt cx="867960" cy="7351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3831120" y="397080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flipV="1">
                    <a:off x="4107600" y="3966120"/>
                    <a:ext cx="46080" cy="54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109040" y="3467160"/>
                    <a:ext cx="590040" cy="503280"/>
                    <a:chOff x="4109040" y="3467160"/>
                    <a:chExt cx="590040" cy="50328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H="1">
                      <a:off x="4109040" y="373896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4385520" y="3734280"/>
                      <a:ext cx="46080" cy="54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>
                      <a:off x="4388400" y="350100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662720" y="3467160"/>
                      <a:ext cx="36360" cy="36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5" name=""/>
                <p:cNvSpPr/>
                <p:nvPr/>
              </p:nvSpPr>
              <p:spPr>
                <a:xfrm>
                  <a:off x="4427640" y="3068640"/>
                  <a:ext cx="720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Arial"/>
                    </a:rPr>
                    <a:t>油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4048200" y="3832200"/>
                <a:ext cx="93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0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80000" y="3274920"/>
                <a:ext cx="93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5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937320" y="4043520"/>
              <a:ext cx="1454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04840" y="2362320"/>
            <a:ext cx="75708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7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